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8E0-9119-4ED3-9B29-97486C57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F7D-D5B1-45AF-AB83-F182794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F56-6BF3-4F7C-8A23-23D65B3F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1EF-7D4D-4A65-8DFF-CF9E65E8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354-E82A-4AC6-945A-F663985C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2BC-0613-4E1C-9487-AFADA0A6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831-5E45-417C-A497-3A6C0AF2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58E-919F-4586-AD67-E9B4536F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B37-40E4-41EC-A110-0F5AFF0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6E1-AD27-47C4-8958-E971013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F3C-67A6-46A0-BE66-83ED4D51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08B-D3AD-40D3-8A00-23F7F4DB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34A-79F6-4C82-89DD-C147754E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dog had pant on his t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e wantted to wash it awa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t wasnt’ long befoe they lef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It wasn’t long before they left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e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What fun they had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dog had pant on his t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dog had paint on his tai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e wantted to wash it awa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He wanted to wash it away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The dog askked the cat for help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The dog askked the cat for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The dog asked the cat for hel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told the dog to w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The cat told the dog to wai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t find the s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’es a smat c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t find the s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The cat found the soap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’es a smat c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She’s a smart ca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she washed the dogs tai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That mad him happ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she washed the dogs tai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She washed the dogs tai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That mad him happ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That made him happy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t wasnt’ long befoe they lef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e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0-14T20:10:22Z</dcterms:modified>
  <cp:revision>37</cp:revision>
  <dc:subject/>
  <dc:title>Slide 1</dc:title>
</cp:coreProperties>
</file>